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4AD-7B36-40B7-851A-E1403763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587-1156-44F1-872F-7D9A83B1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2F0-CDFB-4C0E-9B9C-EA90A6A8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9B0-525B-4D58-98F1-4F45C336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567-427F-42BA-8F7F-1797E00A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FF7-D3D0-4E58-B634-F9FA2B09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88C-1F1C-4239-B103-0DE2A4C1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1E6-6343-4884-B838-9439A04C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DF7-060A-489F-8733-63313930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BB9-1FF8-4A8B-B0CB-6935622D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59F-85DC-4B25-B47F-98F2C159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C84-A59E-4254-BB12-3676DD3E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CBA7-980C-4ECB-B59B-39D49E741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people like more processed beef or feedyard bee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layton Du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Zane, Erik, Tristen, Tristin, Kaci, Hannah, Holly, and Sara. To my mom for getting the hamburger from Dill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History of Hamburgers, Hamburger History, Hamburg Steak, What Is a True Hamburger? Meat Choppers, Cheeseburgers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What's Cooking America, Cooking Recipes, Food History, Dinner Party Menus and Recipes, Health and Beauty Articles, Culinary Dictionary, Baking Hints, Cooking Tips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Web. 19 Jan. 2012. &lt;http://whatscookingamerica.net/History/HamburgerHistory.ht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The History of the Hamburger | A Hamburger Today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A Hamburger Today - America's Favorite Hamburger Weblog!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Web. 19 Jan. 2012. &lt;http://aht.seriouseats.com/archives/2005/08/the_history_of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The History of Hamburgers - From the Saddle to the Drive up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Barbecue Recipes and Grill Information from Barbecue &amp; Grilling at About.com - BBQ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Web. 19 Jan. 2012. &lt;http://bbq.about.com/cs/hamburgers/a/aa070597.ht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the test subjects will like the feed yard beef l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uy 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ok 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et them eat and tell me what they        think on a scale of 1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cord data in excel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 Processed beef to feed yard be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- Their choice on what is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- Same beef for both girls and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I cooked the burgers. I asked my test subjects what they thought would tast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including boys and girls thought the feedyard beef tasted better. Out of ten all my test subjects gave n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got ahold of my information then they would know the processed meat doesn’t taste as good as feed yard be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pent two hours gathering materials and co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7:20:15Z</dcterms:created>
  <dc:creator>USD376</dc:creator>
  <dc:description/>
  <dc:language>en-US</dc:language>
  <cp:lastModifiedBy>USD376</cp:lastModifiedBy>
  <dcterms:modified xsi:type="dcterms:W3CDTF">2012-03-06T17:25:25Z</dcterms:modified>
  <cp:revision>7</cp:revision>
  <dc:subject/>
  <dc:title>What do people like more processed beef or feedyard beef?</dc:title>
</cp:coreProperties>
</file>